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1B2-9919-4868-BD92-981CA721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13A-5D7F-41E8-AEDA-5A4206E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D8E-ACDC-4DE5-9867-2C26501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2B5-7047-40A4-8641-999C7954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6A7-EC8B-487B-872F-1404D09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ED5-3FB7-4F3D-BA9A-6AE2B5A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B28-F320-4B20-B68F-4D853A2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CC0-87A4-4EC7-97C7-1A7AAF9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B39-6D37-4118-A386-7CFBD47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748-4BAB-486E-8104-91409B4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1EA-99C8-4F35-AFEF-8052A703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C5F-6614-470A-AADC-4FBD076E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B126-4F60-4E13-A979-4E927CC8739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8519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MR1100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Linking Marketing to Corporate Strategie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4038480"/>
            <a:ext cx="78548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ize Organizational Opport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opportunities exist in fields where the organization is better than its competitors - so called Distinctive Competenc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Strategic Market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process directed at the product and market levels so as to allocate resources to viable marketing opportunit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cludes Planning, Implementation and Contro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process yields a  MARKETING PL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 Questions to ask at the Strategic Marketing level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are we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want to g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we allocate resources to get to where we want to g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we convert our plans into action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our results compare with our plans, and do deviations require new plans of ac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736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1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 Situational Analysis &amp; SWO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s: What is the current situation with the market or the product?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re are many internal and external sources from which to draw this infor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SWOT analysis is a key tool to determining the answer to: What is the current situation with the market or the product?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 Strategic planning tool used to detect key opportunit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Analysis of key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Internal Strengths (Within the orgs. contro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Internal Weaknesses (Within the orgs. contro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External Opportunities (Can be acted upo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External Threats ( Things to be watche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libri"/>
              </a:rPr>
              <a:t>From the SWOT process plans can be made to build on/improve strengths, detect and fix weaknesses, seize opportunity, and be aware of potential threat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29175" t="23619" r="12254" b="29516"/>
          <a:stretch/>
        </p:blipFill>
        <p:spPr>
          <a:xfrm>
            <a:off x="2057400" y="228600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WOT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36232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nt to read more about SWOT? Click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2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Set Marketing Goals and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rketing objectives must be clear, attainable and measurable targe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objectives centre around Sales, Market Share and Customer satisf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evelop a Strategy to achieve the marketing objectiv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ey strategies  centre around reducing cost or increasing reven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this Section we will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e Corporate Strateg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e Business Unit Strateg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xplain why Business Mission, Values, Culture and Goals are important to organizat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ffectively use strategic planning tools such as the SWOT analysis, Business Portfolio Analysis and the Market Product Analysis to assess strategic opt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ork through the strategic marketing process through the planning, implementation and control phas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ypical Marketing strategies in order to increase reven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arket Development: Enter a new market with an existing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Diversification: Sell a new product to a new mark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TEP 3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- Adjust the Marketing Mix to suit the Strate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termine the best product, the best price, the best promotion and the best distribution methods to meet the object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t the Budg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lan for the costs of implementing the strateg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Key Steps in the Marketing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Implement and Control the Strategy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re the right people for the job and assign their ro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, Schedule and Execute the planned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alibri"/>
              </a:rPr>
              <a:t>Evaluate the Strategies effectiveness in achieving the set objective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y involves the planning and the execution of the plann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ic  planning is a process that plans for the Long-Ter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trategic planning can take place at two level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he Corporate Level - Strategic Corporate Plan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he Product Level - Strategic Market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Steps taken at the corporate (top) level to develop long-run approaches to corporate survival and growth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Step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Establish Core Values 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– enduring principles that the firm lives b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Define the corporate </a:t>
            </a: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 -- What is it we do, to whom to we do it, How we do it and why we do i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Develop a complementary </a:t>
            </a: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Organizational Culture, 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that supports the Core Values and Missio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t specific and measurable Goals &amp;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bjective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or targets to be met my the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objectives may include such things as Survival, Profit, Market Share, Unit Sales, Quality, Employee Welfare, Social Responsibility, Shareholder value, Customer Val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#1 - Where are we now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o are ou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we do well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enci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do we do better than anybody else?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itive Advantag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o are ou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etito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#2 - Where do we want to go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oston Consulting Group Matri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rategic Corporate 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#2 - Where do we want to go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rket-Product Gri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Tilley, Paul (C'ville)</cp:lastModifiedBy>
  <dcterms:modified xsi:type="dcterms:W3CDTF">2011-10-18T12:51:00Z</dcterms:modified>
  <cp:revision>9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